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F6E3-24E8-43E8-82CA-175975A3AA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5B8-639C-4A61-B6F7-95D63FDB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3c16b"/>
                </a:solidFill>
                <a:latin typeface="Times New Roman"/>
              </a:rPr>
              <a:t>Compléter la description suivante</a:t>
            </a:r>
            <a:endParaRPr b="0" lang="en-US" sz="40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Bonjour! Je m’appelle Mélanie et j’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avoir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16 ans et j’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habiter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n Provence dans le sud de la France. Je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êtr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ssez </a:t>
            </a: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(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petit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vec des cheveux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long)</a:t>
            </a: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bouclé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es amis disent que je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être)</a:t>
            </a: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amusant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sympa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fidèl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on frère pense que je suis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laid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pénibl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! J’aime sortir avec mes amis surtout faire (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___)</a:t>
            </a: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shopping. Dimanche, je joue (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    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foot et passe le reste de la journée à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3c16b"/>
                </a:solidFill>
                <a:latin typeface="Times New Roman"/>
              </a:rPr>
              <a:t>Compléter la description suivante</a:t>
            </a:r>
            <a:endParaRPr b="0" lang="en-US" sz="40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Bonjour! Je m’appelle Mélanie et j’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i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16 ans et j’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habi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n Provence dans le sud de la France. J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ui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ssez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eti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vec des cheveux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ong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bouclé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es amis disent que j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ui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musan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ympa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fidèl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on frère pense que je suis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énibl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aid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! J’aime sortir avec mes amis surtout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du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shopping. Dimanche, je jou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u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foot et passe le reste de la journée à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me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Rounded Rectangle 1"/>
          <p:cNvSpPr/>
          <p:nvPr/>
        </p:nvSpPr>
        <p:spPr>
          <a:xfrm>
            <a:off x="7415280" y="1676520"/>
            <a:ext cx="380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ounded Rectangle 4"/>
          <p:cNvSpPr/>
          <p:nvPr/>
        </p:nvSpPr>
        <p:spPr>
          <a:xfrm>
            <a:off x="2895480" y="2173320"/>
            <a:ext cx="11430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5"/>
          <p:cNvSpPr/>
          <p:nvPr/>
        </p:nvSpPr>
        <p:spPr>
          <a:xfrm>
            <a:off x="3733920" y="2666880"/>
            <a:ext cx="68580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6"/>
          <p:cNvSpPr/>
          <p:nvPr/>
        </p:nvSpPr>
        <p:spPr>
          <a:xfrm>
            <a:off x="5454720" y="2666880"/>
            <a:ext cx="102240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3051000" y="3147840"/>
            <a:ext cx="9874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4419720" y="3147840"/>
            <a:ext cx="14475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2666880" y="36259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10"/>
          <p:cNvSpPr/>
          <p:nvPr/>
        </p:nvSpPr>
        <p:spPr>
          <a:xfrm>
            <a:off x="3468600" y="3629160"/>
            <a:ext cx="1652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ounded Rectangle 11"/>
          <p:cNvSpPr/>
          <p:nvPr/>
        </p:nvSpPr>
        <p:spPr>
          <a:xfrm>
            <a:off x="5321160" y="3645000"/>
            <a:ext cx="11559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ounded Rectangle 12"/>
          <p:cNvSpPr/>
          <p:nvPr/>
        </p:nvSpPr>
        <p:spPr>
          <a:xfrm>
            <a:off x="7034040" y="3618000"/>
            <a:ext cx="11559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ounded Rectangle 13"/>
          <p:cNvSpPr/>
          <p:nvPr/>
        </p:nvSpPr>
        <p:spPr>
          <a:xfrm>
            <a:off x="6172200" y="4114800"/>
            <a:ext cx="13716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ounded Rectangle 14"/>
          <p:cNvSpPr/>
          <p:nvPr/>
        </p:nvSpPr>
        <p:spPr>
          <a:xfrm>
            <a:off x="1523880" y="4572000"/>
            <a:ext cx="10670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ounded Rectangle 15"/>
          <p:cNvSpPr/>
          <p:nvPr/>
        </p:nvSpPr>
        <p:spPr>
          <a:xfrm>
            <a:off x="2438280" y="5089680"/>
            <a:ext cx="5335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ounded Rectangle 16"/>
          <p:cNvSpPr/>
          <p:nvPr/>
        </p:nvSpPr>
        <p:spPr>
          <a:xfrm>
            <a:off x="7751880" y="5097600"/>
            <a:ext cx="5331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ounded Rectangle 17"/>
          <p:cNvSpPr/>
          <p:nvPr/>
        </p:nvSpPr>
        <p:spPr>
          <a:xfrm>
            <a:off x="1592280" y="6095880"/>
            <a:ext cx="77004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0T01:09:09Z</dcterms:modified>
  <cp:revision>97</cp:revision>
  <dc:subject/>
  <dc:title>Allez, viens! – Level 2</dc:title>
</cp:coreProperties>
</file>